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8F2-DC05-4FEE-B4A9-88105630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545-715F-4FAD-93E2-DB4F5E16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9ED-47CC-4298-9304-5B3E1D22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158-1CB2-4E94-A2A3-E87EE80B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597-1FBE-440E-B096-206A751F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1BF-647C-47AA-8B19-8A907408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63A-09F1-4E4F-A033-AD74D8F1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DF9-B923-4840-B834-71860DA3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1DA-0A7B-4D16-871F-F6F16455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DED-E2D5-408A-9CEB-9F10E74A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52F-16B4-48A3-8186-17AB2E2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C75-98BA-46E0-90CC-A34933AD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7F6-B311-473F-B606-4D88F7A0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2920" r="0" b="27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picture above and write your own naturalistic story to go along with it. 1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3:40:38Z</dcterms:created>
  <dc:creator>Angie</dc:creator>
  <dc:description/>
  <dc:language>en-US</dc:language>
  <cp:lastModifiedBy>Angie</cp:lastModifiedBy>
  <dcterms:modified xsi:type="dcterms:W3CDTF">2010-01-03T23:43:15Z</dcterms:modified>
  <cp:revision>2</cp:revision>
  <dc:subject/>
  <dc:title>Slide 1</dc:title>
</cp:coreProperties>
</file>